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FF260-9DF2-484D-8E3E-5FFEB2DC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BA577-7F19-41DA-BD18-B96E0CC3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E1341-3D43-4213-B907-F07090F3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F1E98-9998-4FC1-83FE-3159A97C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8180-C8B9-4E9D-9841-B83E6699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C93D-F0AD-4B19-804C-DBE70AD7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9652-F168-4CC8-9F28-F7579565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F485-44B0-47C5-97E3-A5097B22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54F8-DF4A-4CA7-ABB2-778F9074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D19C-D972-419F-B3BC-29F47A1D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8350-61E7-45E3-A9AD-D37C094A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98784-6914-41E3-89FB-2ABA0D69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BDB7-81ED-4C80-8694-A6292CFA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E114-9BB5-4373-874D-16ACD76A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EF15-E87B-4E2D-B850-D7088E96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E5DD-4FF3-42A6-BFCC-37D3FFA8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FAC8-E311-4C4B-AA01-8D0B671D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E6DD5-6361-43F5-937D-E2013AE5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7837E-86CF-4C10-8BE7-F56712F4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D290C-1A4F-4DFD-9DB5-2A011152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E4926-7F07-45EC-BC6E-85A47FE3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C586F-8524-48AC-BE84-8B427BD2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C7CCE-CAA4-4C0E-A14A-DB3C720B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DD9B4-66BB-4410-A947-AA71B7A8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7AC8-A146-4B88-9ECE-8415392C52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12FF-C699-4F4A-86A9-052A6D57C8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564000" y="2421000"/>
            <a:ext cx="482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2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PROF-RECORD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566100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ш тел.-</a:t>
            </a:r>
            <a:r>
              <a:rPr b="1" lang="en-US" sz="20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33-333-3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00720" y="623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й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prof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21209400">
            <a:off x="611280" y="2707920"/>
            <a:ext cx="5545080" cy="3678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456000">
            <a:off x="1187280" y="845640"/>
            <a:ext cx="756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ее 5 лет наша компания работ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д созданием доброкачественного това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к концу 2006 мы получили народное призн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ша продукция пользуется успехом в Московск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Иркутской и других обла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755640" y="2637000"/>
            <a:ext cx="781200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купайте наши тетрадки!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3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476280"/>
            <a:ext cx="5400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Делаем тетрадки по заказу 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ы можешь оформить ее сам, а мы сделаем твой заказ. Если мы не сделаем ваш заказ вовремя, то вы получите тетрадку совершенно бесплатно!!!!!!!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zoom dir="in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132000" y="836640"/>
            <a:ext cx="316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имание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2492280"/>
            <a:ext cx="4969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40360" y="1989000"/>
            <a:ext cx="4608360" cy="31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упер акция!!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 вы купите 10 тетрадок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-RECORDS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отправите наклейки оторванные с этих тетрадей, то может име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нете победителем и выиграете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лавиатуру с колонкам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 rot="1122600">
            <a:off x="480600" y="3133800"/>
            <a:ext cx="3816360" cy="25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700"/>
                            </p:stCondLst>
                            <p:childTnLst>
                              <p:par>
                                <p:cTn id="2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8100"/>
                            </p:stCondLst>
                            <p:childTnLst>
                              <p:par>
                                <p:cTn id="2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9150"/>
                            </p:stCondLst>
                            <p:childTnLst>
                              <p:par>
                                <p:cTn id="2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255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28800" y="2146320"/>
            <a:ext cx="548640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упи тетради PROF-RECORD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987640" y="260280"/>
            <a:ext cx="345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 центр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 rot="1682400">
            <a:off x="3749400" y="3475080"/>
            <a:ext cx="5234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484360" y="907920"/>
            <a:ext cx="4248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ы специализируемс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24000" y="1989000"/>
            <a:ext cx="51087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канцилярских товарах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9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979640" y="191628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олько у нас вы можете найти  огромный выбор тетрадок которые Вам подойдут!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 rot="1064400">
            <a:off x="4716000" y="1412640"/>
            <a:ext cx="41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Тетрадки для офиса, для школы,</a:t>
            </a:r>
            <a:br>
              <a:rPr sz="2000"/>
            </a:b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тетрадки ежедневники и многое друг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20946000">
            <a:off x="755640" y="1412640"/>
            <a:ext cx="375444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9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9"/>
            </a:gs>
            <a:gs pos="100000">
              <a:srgbClr val="0000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56000" y="1052640"/>
            <a:ext cx="568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ша фирма изготавливает бумагу для тетрадок по принципу полученным в Китае Цай Лунеем, путем осаждения растительных волокон на сетке из водной суспенз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3860640"/>
            <a:ext cx="496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4221000"/>
            <a:ext cx="4751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ы усовершенствовали этот способ и теперь тетрадь изготавливаемая нашим заводом обладает белизной, гладкостью и высокой впитываем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36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771640" y="765000"/>
            <a:ext cx="48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 нас самая новая техника по производству бум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 rot="21065400">
            <a:off x="1476360" y="2349360"/>
            <a:ext cx="3240000" cy="4149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 rot="1032000">
            <a:off x="4284360" y="2781000"/>
            <a:ext cx="318924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16360" y="1341360"/>
            <a:ext cx="40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ококвалифицированные специал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627280" y="2565360"/>
            <a:ext cx="3960720" cy="367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400"/>
                            </p:stCondLst>
                            <p:childTnLst>
                              <p:par>
                                <p:cTn id="1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 rot="1663800">
            <a:off x="4499280" y="1483920"/>
            <a:ext cx="38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нас вы найдете широкий выбор различных тетрадок, на ваш вку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 rot="20704200">
            <a:off x="900000" y="836640"/>
            <a:ext cx="3167280" cy="3672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rot="20737200">
            <a:off x="1116000" y="19162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тр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692360" y="2349000"/>
            <a:ext cx="136836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619280" y="2636640"/>
            <a:ext cx="136836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835280" y="2852280"/>
            <a:ext cx="136836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763640" y="3141360"/>
            <a:ext cx="136836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 rot="1184400">
            <a:off x="3414600" y="2949480"/>
            <a:ext cx="2898720" cy="3313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rot="1119000">
            <a:off x="3634920" y="3357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тр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6360" y="4149720"/>
            <a:ext cx="129564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43280" y="4365720"/>
            <a:ext cx="129564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4581360"/>
            <a:ext cx="1295280" cy="43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00720" y="4797360"/>
            <a:ext cx="1295280" cy="43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266000">
            <a:off x="4716000" y="414936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 rot="21130200">
            <a:off x="385920" y="3284280"/>
            <a:ext cx="2833560" cy="3240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rot="21095400">
            <a:off x="755280" y="3860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тр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042920" y="4365360"/>
            <a:ext cx="1368360" cy="21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332000" y="4581360"/>
            <a:ext cx="136836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116000" y="4868640"/>
            <a:ext cx="1368360" cy="21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32000" y="5084640"/>
            <a:ext cx="136836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08:41:44Z</dcterms:created>
  <dc:creator>ЦУНАМИ</dc:creator>
  <dc:description/>
  <dc:language>en-US</dc:language>
  <cp:lastModifiedBy>User</cp:lastModifiedBy>
  <dcterms:modified xsi:type="dcterms:W3CDTF">2008-01-28T11:15:29Z</dcterms:modified>
  <cp:revision>6</cp:revision>
  <dc:subject/>
  <dc:title>Слайд 1</dc:title>
</cp:coreProperties>
</file>